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8A0-DFDE-48FB-8A02-1A8C9D63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9EE5-FE38-4103-BB3A-9D4D2408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9EB-CA89-4CD5-A1BC-6804CDDF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343-E59B-4D6A-98CC-BCAF2FAF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2DA1-0653-4F2F-9E6C-2244DC9D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AE3-DA2A-4DF9-B193-5E397275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E224-67B6-4CAA-8BAE-A4551428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AB9-83EC-4EC1-8E70-240A487D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BE0-5FC5-4B8C-B5CB-563F51C7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F23-2497-4127-8020-1D30D67A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E663-6B94-4DDE-8AFF-EDE9770F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8BB8-D078-4DDF-BFC1-ECEB008B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35AF-7F36-4601-9F07-88A2385603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9720" y="1981080"/>
            <a:ext cx="390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ffer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easur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38280" y="3809880"/>
            <a:ext cx="41148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7391160" cy="213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739116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90720" y="5334120"/>
            <a:ext cx="7391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9116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7391160" cy="2590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209680" y="5791320"/>
            <a:ext cx="4737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55344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7467840" cy="1752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38080" y="3733920"/>
            <a:ext cx="7467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1676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708660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7086600" cy="1019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7086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553080" cy="1676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19320" y="2133720"/>
            <a:ext cx="7010280" cy="990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219320" y="3124080"/>
            <a:ext cx="6933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15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911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505320"/>
            <a:ext cx="739152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7391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6:16Z</dcterms:modified>
  <cp:revision>206</cp:revision>
  <dc:subject/>
  <dc:title>Slide 1</dc:title>
</cp:coreProperties>
</file>